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drumroll.wav" ContentType="audio/x-wav"/>
  <Override PartName="/ppt/media/image2.png" ContentType="image/png"/>
  <Override PartName="/ppt/media/whoosh.wav" ContentType="audio/x-wav"/>
  <Override PartName="/ppt/media/bomb.wav" ContentType="audio/x-wav"/>
  <Override PartName="/ppt/media/image6.png" ContentType="image/png"/>
  <Override PartName="/ppt/media/explode.wav" ContentType="audio/x-wav"/>
  <Override PartName="/ppt/media/image3.jpeg" ContentType="image/jpeg"/>
  <Override PartName="/ppt/media/image4.jpeg" ContentType="image/jpeg"/>
  <Override PartName="/ppt/media/cashreg.wav" ContentType="audio/x-wav"/>
  <Override PartName="/ppt/media/image5.jpeg" ContentType="image/jpeg"/>
  <Override PartName="/ppt/media/coin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6967-74A5-4B28-8C71-758387F97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B633-49D0-41DC-B18C-D0E9B3D8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BF90-267A-4348-B2E2-4CB6787A2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943F-D6B9-4A87-852C-A62DF4D45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F028-F92D-480F-A5CD-E2A4F6FB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CBF3-9CF2-48C2-9682-58506CAA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3136-06DB-4B95-BD7E-89D6E6DD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6863-AA26-4379-B5CF-B4638662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9525-1D3B-4C8B-8277-60885AAD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1719-B80D-4187-829D-B81CF1E0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AEC1-86A8-4DF2-B555-69792916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3146-B872-478A-A4A2-8853F4DA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C768-DC9C-4EBA-AEC8-CF43DC33A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audio" Target="../media/coin.wav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attle Of Chickamau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k Anta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529524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40384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ttle of Chickamauga was fought September 19–20, 186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ttle was the most significant Union defeat in the Western Theater of the American Civil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, the battle involved the second highest number of casualties in the war following the Battle of Gettysbur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ttle was fought between the Union Army of the Cumberland under Major General William Rosecrans and the Confederate army of Tennessee under General Braxton Brag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914400"/>
            <a:ext cx="3938400" cy="4724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62120" y="6019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en.wikipedia.org/wiki/Battle_of_Chickamau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bomb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4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-5395320"/>
            <a:ext cx="152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ter his successful Tullahoma Campaign, Rosecrans renewed the offensive, aiming to force the Confederates out of Chattanoog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early September, Rosecrans consolidated his forces scattered in Tennessee and Georgia and forced Bragg's army out of Chattanooga, heading south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Union troops followed it and brushed with it at Davis's Cross Road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agg was determined to reoccupy Chattanooga and decided to meet a part of Rosecrans's army, defeat it, and then move back into the cit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September 17 he headed north, intending to attack the isolated XXI Corp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 Bragg marched north on September 18, his cavalry and infantry fought with Union cavalry and mounted infantry, which were armed with Spencer repeating rif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876920" y="914400"/>
            <a:ext cx="3589200" cy="5257800"/>
          </a:xfrm>
          <a:prstGeom prst="rect">
            <a:avLst/>
          </a:prstGeom>
          <a:ln w="0">
            <a:noFill/>
          </a:ln>
        </p:spPr>
      </p:pic>
    </p:spTree>
  </p:cSld>
  <p:transition>
    <p:cover dir="u"/>
    <p:sndAc>
      <p:stSnd>
        <p:snd r:embed="rId2" name="whoosh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" dur="5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529560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battle was fought Catoosa County and Walker County in Geo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fighting began in earnest on the morning of September 1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agg’s men strongly assaulted, but could not break the union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next day, Bragg resumed his assa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late morning, Rosecrans was misinformed that he had a gap in his line. In moving units to shore up the supposed gap, Rosecrans accidentally created an actual gap, directly in the path of an eight-brigade assault on a narrow front by Confederate Lt. Gen. James Longstr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ngstreet's attack drove one-third of the Union army, including Rosecrans himself, from the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on units spontaneously rallied to create a defensive line on Horseshoe Ridge, forming a new right wing for the line of Maj. Gen. George H. Thomas, who assumed overall command of remaining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though the Confederates launched costly and determined assaults, Thomas and his men held until twi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on forces then retired to Chattanooga while the Confederates occupied the surrounding heights, besieging the 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Confederates ended up winning the batt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720" y="0"/>
            <a:ext cx="14112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9360" bIns="9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720" y="0"/>
            <a:ext cx="14112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9360" bIns="9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720" y="0"/>
            <a:ext cx="14112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9360" bIns="9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95680" y="1523880"/>
            <a:ext cx="4419720" cy="3810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cashreg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5.78035E-007 C -0.00451 -0.0178 -0.01389 -0.03052 -0.02222 -0.04462 C -0.02691 -0.05202 -0.02934 -0.06173 -0.03489 -0.06774 C -0.04097 -0.07491 -0.04878 -0.08254 -0.05399 -0.09087 C -0.08194 -0.13503 -0.1151 -0.17133 -0.15087 -0.20509 C -0.17864 -0.23121 -0.20503 -0.26289 -0.23976 -0.27052 C -0.25121 -0.27607 -0.25226 -0.27884 -0.26667 -0.27052 C -0.26823 -0.26983 -0.26753 -0.26659 -0.26823 -0.26428 C -0.27483 -0.24509 -0.28073 -0.22289 -0.28889 -0.20509 C -0.30243 -0.17549 -0.31215 -0.16115 -0.32708 -0.13526 C -0.33385 -0.1237 -0.33889 -0.11052 -0.34601 -0.09965 C -0.35208 -0.08994 -0.35677 -0.08393 -0.36042 -0.07191 C -0.36701 -0.0504 -0.36927 -0.03491 -0.37153 -0.01272 C -0.37101 0.00555 -0.37187 0.02428 -0.36979 0.04231 C -0.36823 0.05596 -0.36076 0.07376 -0.35555 0.08671 C -0.34149 0.12116 -0.33489 0.12486 -0.31267 0.1459 C -0.30868 0.1496 -0.30573 0.15538 -0.30156 0.15838 C -0.2967 0.16254 -0.29097 0.16416 -0.28576 0.16694 C -0.25625 0.18289 -0.24149 0.18728 -0.21111 0.19214 C -0.20312 0.19075 -0.19531 0.19052 -0.18733 0.18798 C -0.17083 0.18289 -0.15937 0.16809 -0.14601 0.1563 C -0.13889 0.15006 -0.13038 0.14636 -0.12396 0.13942 C -0.11458 0.12971 -0.10573 0.12162 -0.09549 0.11399 C -0.08403 0.10613 -0.07535 0.09619 -0.0651 0.08671 C -0.05781 0.08 -0.04288 0.06752 -0.04288 0.06752 C -0.01528 0.02197 0.00729 -0.02613 0.02691 -0.07838 C 0.03229 -0.09225 0.0342 -0.10867 0.03958 -0.12254 C 0.04566 -0.13896 0.04879 -0.13665 0.05712 -0.15006 C 0.06945 -0.17017 0.08438 -0.1963 0.10469 -0.203 C 0.14115 -0.1785 0.15156 -0.10451 0.16823 -0.05942 C 0.17309 -0.02613 0.17708 0.00301 0.17136 0.03815 C 0.16962 0.04856 0.15868 0.06543 0.15868 0.06543 C 0.15573 0.08902 0.14392 0.09919 0.13333 0.1163 C 0.13125 0.11954 0.13073 0.12416 0.12847 0.12671 C 0.12483 0.13133 0.11979 0.13318 0.1158 0.13734 C 0.10868 0.14405 0.10347 0.15538 0.09514 0.15838 C 0.08542 0.16231 0.07639 0.16809 0.06667 0.1711 C 0.06372 0.17226 0.03073 0.17549 0.03021 0.17549 C -0.01285 0.17202 -0.06458 0.16925 -0.10486 0.14359 C -0.15 0.11515 -0.1842 0.05133 -0.21441 0.00208 C -0.25642 -0.06774 -0.26528 -0.07006 -0.30642 -0.12485 C -0.3368 -0.16532 -0.36649 -0.20694 -0.39687 -0.2474 C -0.40121 -0.25318 -0.40781 -0.25526 -0.41285 -0.26011 C -0.42396 -0.27144 -0.43073 -0.28139 -0.44444 -0.2874 C -0.47274 -0.27838 -0.48559 -0.24162 -0.50312 -0.21341 C -0.53871 -0.1563 -0.57587 -0.10381 -0.59861 -0.03607 C -0.59757 -0.02035 -0.59757 -0.00462 -0.59531 0.01041 C -0.59444 0.01688 -0.59149 0.0222 -0.58889 0.02752 C -0.57153 0.06613 -0.54288 0.08694 -0.50955 0.09064 C -0.49149 0.08879 -0.47292 0.09064 -0.45555 0.08439 C -0.38785 0.05965 -0.35121 0.02197 -0.29045 -0.02543 C -0.27413 -0.03815 -0.22326 -0.07676 -0.20156 -0.09318 C -0.17778 -0.11121 -0.16163 -0.14381 -0.13837 -0.16277 C -0.1118 -0.18451 -0.08281 -0.20925 -0.0684 -0.2474 C -0.06736 -0.25318 -0.06458 -0.2585 -0.0651 -0.26428 C -0.06667 -0.28254 -0.08229 -0.29248 -0.09375 -0.29803 C -0.10312 -0.30312 -0.11267 -0.30682 -0.12222 -0.31075 C -0.1276 -0.31329 -0.13281 -0.31792 -0.13837 -0.3193 C -0.15191 -0.32277 -0.16562 -0.32139 -0.17934 -0.32347 C -0.20608 -0.32115 -0.22049 -0.32277 -0.24288 -0.31491 C -0.26354 -0.30751 -0.28368 -0.29618 -0.30486 -0.29202 C -0.40399 -0.27191 -0.50764 -0.25896 -0.60312 -0.21572 C -0.65712 -0.19144 -0.71614 -0.17087 -0.73333 -0.09318 C -0.72882 -0.03815 -0.73194 -0.04763 -0.72222 -0.00624 C -0.69687 0.09965 -0.62396 0.18844 -0.55868 0.25133 C -0.52049 0.28856 -0.4783 0.33411 -0.43333 0.35306 C -0.38767 0.37202 -0.33854 0.3859 -0.29045 0.39075 C -0.24983 0.4074 -0.2066 0.41133 -0.1651 0.42266 C -0.11927 0.42035 -0.09288 0.41757 -0.05243 0.40994 C -0.0217 0.39422 0.0099 0.36971 0.04288 0.36347 C 0.05816 0.35607 0.07153 0.35676 0.08403 0.34012 C 0.08142 0.29711 0.06424 0.27399 0.04445 0.23861 C -0.02778 0.11006 -0.17708 0.11052 -0.2842 0.10359 C -0.33125 0.10682 -0.3783 0.11006 -0.42535 0.11399 C -0.45573 0.11676 -0.48576 0.12786 -0.51597 0.13318 C -0.52743 0.13757 -0.53507 0.14012 -0.54444 0.14983 C -0.54878 0.15931 -0.55052 0.16763 -0.55399 0.17734 C -0.55208 0.20023 -0.55486 0.22543 -0.54601 0.24509 C -0.53003 0.2807 -0.50868 0.30798 -0.48264 0.32971 C -0.47292 0.33757 -0.46545 0.34983 -0.45555 0.357 C -0.44305 0.36624 -0.41753 0.37434 -0.4033 0.37827 C -0.39045 0.37688 -0.35434 0.37526 -0.33976 0.36555 C -0.2934 0.3348 -0.25503 0.28532 -0.20799 0.25572 C -0.14913 0.2185 -0.09496 0.17064 -0.03993 0.12463 C -0.01354 0.10289 -0.01059 0.09364 0.0158 0.06335 C 0.02379 0.05411 0.04097 0.03838 0.04757 0.02752 C 0.05677 0.01249 0.07083 -0.01688 0.07622 -0.03607 C 0.07899 -0.04555 0.08247 -0.06566 0.08247 -0.06566 C 0.08021 -0.07722 0.07969 -0.08971 0.07465 -0.09965 C 0.04063 -0.16532 -0.03993 -0.19699 -0.09219 -0.22404 C -0.10191 -0.22913 -0.1118 -0.23422 -0.12222 -0.23676 C -0.14531 -0.24208 -0.19201 -0.2474 -0.19201 -0.2474 C -0.23021 -0.24462 -0.2717 -0.24902 -0.30156 -0.20925 C -0.31788 -0.18751 -0.33021 -0.14289 -0.35243 -0.13341 C -0.35555 -0.15861 -0.35434 -0.13572 -0.34601 -0.17364 C -0.34288 -0.18821 -0.34062 -0.203 -0.33819 -0.2178 C -0.33246 -0.25179 -0.32066 -0.28254 -0.31111 -0.31491 C -0.30434 -0.3378 -0.29774 -0.35861 -0.28264 -0.3741 C -0.2658 -0.39121 -0.24566 -0.39376 -0.22535 -0.39746 C -0.19722 -0.39584 -0.17101 -0.39237 -0.14444 -0.3785 C -0.0941 -0.35237 -0.04826 -0.31029 0.00313 -0.2874 C 0.03351 -0.27399 0.06215 -0.26936 0.09358 -0.26428 C 0.10417 -0.26035 0.11354 -0.2541 0.12379 -0.24948 C 0.14722 -0.21711 0.10886 -0.19329 0.09045 -0.18404 C 0.03733 -0.1993 0.06476 -0.18566 0.01111 -0.23052 C -0.05364 -0.28509 -0.02639 -0.26335 -0.07778 -0.3022 C -0.13594 -0.34613 -0.19028 -0.40925 -0.25868 -0.42058 C -0.33767 -0.41711 -0.35069 -0.42751 -0.41111 -0.39098 C -0.42274 -0.38404 -0.43021 -0.36855 -0.43993 -0.35722 C -0.45052 -0.34451 -0.46302 -0.33457 -0.47465 -0.32347 C -0.51667 -0.28324 -0.55833 -0.24509 -0.61111 -0.23884 C -0.61319 -0.23815 -0.62101 -0.23676 -0.62222 -0.2326 C -0.62413 -0.22636 -0.61319 -0.2185 -0.61285 -0.2178 C -0.59687 -0.19676 -0.63021 -0.2215 -0.58576 -0.19029 C -0.53299 -0.15306 -0.49236 -0.1422 -0.43333 -0.13526 C -0.32257 -0.10196 -0.26667 -0.12647 -0.11597 -0.1311 C -0.10712 -0.13248 -0.09757 -0.13179 -0.08889 -0.13526 C -0.03299 -0.15722 0.01927 -0.20925 0.07778 -0.2178 C 0.09167 -0.21341 0.10695 -0.21295 0.1191 -0.203 C 0.15938 -0.1704 0.17396 -0.09988 0.17934 -0.04231 C 0.17865 -0.03052 0.17726 0.01249 0.17465 0.03376 C 0.16979 0.0733 0.15399 0.11838 0.1349 0.14983 C 0.12604 0.16439 0.11684 0.17064 0.10469 0.18174 C 0.09566 0.19006 0.08542 0.197 0.07465 0.19861 C 0.02379 0.20601 0.04601 0.20231 0.00799 0.20902 C -0.03524 0.20671 -0.09896 0.21411 -0.14444 0.18798 C -0.18281 0.16601 -0.21632 0.13526 -0.25243 0.10775 C -0.26667 0.09688 -0.28177 0.08833 -0.29531 0.07584 C -0.32708 0.04694 -0.36858 0.00578 -0.40642 -0.00416 C -0.41528 -0.0104 -0.41788 -0.01225 -0.42066 0.00208 C -0.42222 0.03283 -0.42066 0.05711 -0.42864 0.08439 C -0.43993 0.12324 -0.45417 0.15908 -0.46371 0.19861 C -0.46979 0.25965 -0.47014 0.24046 -0.4651 0.3126 C -0.46458 0.32046 -0.46441 0.32879 -0.46198 0.33596 C -0.45937 0.34382 -0.45486 0.35006 -0.45087 0.357 C -0.44549 0.36648 -0.43733 0.37989 -0.42864 0.38451 C -0.42361 0.38728 -0.41788 0.38728 -0.41285 0.3889 C -0.37083 0.38497 -0.33299 0.37989 -0.29201 0.37411 C -0.27309 0.36809 -0.25364 0.36601 -0.23489 0.35931 C -0.22101 0.35399 -0.18403 0.32856 -0.17483 0.32347 C -0.1684 0.32 -0.1618 0.31838 -0.15555 0.31491 C -0.13576 0.30405 -0.11649 0.29226 -0.09687 0.28093 C -0.08351 0.2733 -0.06805 0.2733 -0.05399 0.26821 C -0.04479 0.26497 -0.03663 0.25804 -0.02708 0.25572 C 0.00972 0.24509 0.05382 0.23769 0.09201 0.23237 C 0.12257 0.22289 0.15295 0.21688 0.18403 0.21133 C 0.19236 0.20833 0.20122 0.20833 0.20955 0.20509 C 0.21406 0.20324 0.22222 0.19653 0.22222 0.19653 C 0.21719 0.21364 0.21927 0.23191 0.21424 0.24948 C 0.20608 0.27792 0.19427 0.30682 0.18403 0.33387 C 0.17708 0.35283 0.17622 0.37411 0.16667 0.39075 C 0.16563 0.39491 0.16649 0.40555 0.16354 0.4037 C 0.13559 0.38567 0.10833 0.36601 0.0809 0.34659 C 0.07396 0.3415 0.06771 0.33503 0.06024 0.33179 C 0.01945 0.31422 -0.01962 0.30636 -0.06198 0.2978 C -0.16962 0.27584 -0.10625 0.28578 -0.16823 0.27676 C -0.21927 0.26035 -0.26927 0.24925 -0.32066 0.23237 C -0.33958 0.22659 -0.35746 0.21572 -0.37621 0.20902 C -0.38559 0.20578 -0.43489 0.19746 -0.44132 0.19653 C -0.47674 0.19769 -0.4908 0.19191 -0.51753 0.20902 C -0.53663 0.24809 -0.5243 0.2763 -0.51267 0.31491 C -0.50746 0.33179 -0.50434 0.35468 -0.48889 0.36139 C -0.48489 0.36301 -0.48038 0.36301 -0.47621 0.36347 C -0.43316 0.35954 -0.44062 0.36139 -0.40799 0.35491 C -0.38698 0.35075 -0.36736 0.34243 -0.34601 0.34012 C -0.31736 0.33249 -0.29114 0.32694 -0.26198 0.32347 C -0.21024 0.30174 -0.15712 0.27931 -0.10799 0.24717 C -0.07951 0.22867 -0.05347 0.2037 -0.02378 0.18798 C 0.01198 0.16902 -0.0026 0.17965 0.03802 0.13942 C 0.04826 0.12925 0.06823 0.10775 0.06823 0.10775 C 0.08767 0.01572 0.00747 -0.02127 -0.04462 -0.02751 C -0.08246 -0.02266 -0.09705 -0.02335 -0.13177 -0.01063 C -0.1717 0.00416 -0.20885 0.03122 -0.24757 0.05064 C -0.26406 0.05896 -0.27969 0.07052 -0.29687 0.07584 C -0.32066 0.08393 -0.36979 0.09064 -0.36979 0.09064 C -0.4441 0.08532 -0.50781 0.07399 -0.57934 0.08023 C -0.59375 0.08555 -0.58333 0.0659 -0.5809 0.0548 C -0.57187 0.0111 -0.57222 -0.03722 -0.56198 -0.08046 C -0.55677 -0.1022 -0.54826 -0.12254 -0.54132 -0.14404 C -0.53889 -0.15144 -0.53785 -0.15977 -0.53489 -0.16694 C -0.53038 -0.17757 -0.52396 -0.18659 -0.5191 -0.19653 C -0.51128 -0.21318 -0.50347 -0.22983 -0.49687 -0.2474 C -0.48472 -0.27954 -0.47118 -0.30474 -0.45243 -0.32971 C -0.44896 -0.33433 -0.44705 -0.34104 -0.44288 -0.34451 C -0.42726 -0.35722 -0.40139 -0.35838 -0.38437 -0.36139 C -0.34236 -0.35884 -0.30538 -0.35676 -0.2651 -0.34659 C -0.23941 -0.33248 -0.21042 -0.31746 -0.18733 -0.29595 C -0.16076 -0.27098 -0.13489 -0.23861 -0.11267 -0.20717 C -0.09653 -0.18451 -0.08489 -0.15653 -0.0717 -0.1311 C -0.05347 -0.09688 -0.03212 -0.0652 -0.01111 -0.03399 C 0.03663 0.03723 -0.02083 -0.04046 0.00955 5.78035E-007 C 0.01163 0.00624 0.01302 0.01318 0.0158 0.01896 C 0.01788 0.02312 0.02136 0.02567 0.02379 0.0296 C 0.03056 0.04046 0.03646 0.05226 0.04288 0.06335 C 0.04566 0.06821 0.04809 0.0733 0.0507 0.07815 C 0.05174 0.08 0.05365 0.08278 0.05243 0.08439 C 0.05122 0.08601 0.04913 0.08324 0.04757 0.08231 C 0.0408 0.07353 0.03299 0.06104 0.02379 0.05711 C 0.01667 0.04763 0.00608 0.03861 2.5E-006 0.0296 C -0.0026 0.02567 -0.00364 0.02058 -0.00642 0.01688 C -0.00799 0.0148 -0.00955 0.01272 -0.01111 0.01041 C -0.00833 0.00671 -0.00694 0.00509 -0.00486 5.78035E-007 C -0.00417 -0.00208 -0.00399 -0.00439 -0.00312 -0.00624 C -0.00226 -0.00786 -0.00087 -0.01225 2.5E-006 -0.01063 C 0.00156 -0.00763 2.5E-006 -0.00347 2.5E-006 5.78035E-007 Z">
                                      <p:cBhvr>
                                        <p:cTn id="152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876920" y="0"/>
            <a:ext cx="4060800" cy="3773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581280" y="19051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3" name="coin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20:44:00Z</dcterms:created>
  <dc:creator>user</dc:creator>
  <dc:description/>
  <dc:language>en-US</dc:language>
  <cp:lastModifiedBy>user</cp:lastModifiedBy>
  <dcterms:modified xsi:type="dcterms:W3CDTF">2011-09-13T02:27:15Z</dcterms:modified>
  <cp:revision>2</cp:revision>
  <dc:subject/>
  <dc:title>The Battle Of Chickamauga</dc:title>
</cp:coreProperties>
</file>